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F93-A2E6-433D-A8F5-B86FB07A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527-BB0B-4723-8F5D-F720EE3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114-7EE5-44B9-A1AE-EBE6B2C9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682-E4D9-4A9D-BB76-42927EAC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13A-4545-45BE-B193-B34D8349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A7B-44C7-477C-834D-6279CBA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C20-022C-42B4-97E9-02F75446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EE2-82BA-49CF-8AE5-3A352B8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628-9BC5-40E4-B15F-BFD95A4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3CA-15BC-4003-9790-984338E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A8E-182E-4054-876A-3E901BC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AF7-4720-456B-B0D4-9A168D9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215-4892-41CD-A089-30012BB1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How did the Atlantic Slave trade shape the lives and economies of Africans and Europ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vocab pg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trade, mutiny, Middl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56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15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49200"/>
            <a:ext cx="7010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Coffin” Position Below D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705720" cy="4577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1080" y="92160"/>
            <a:ext cx="70106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BlackChancery"/>
              </a:rPr>
              <a:t>African Captives</a:t>
            </a:r>
            <a:br>
              <a:rPr sz="4100"/>
            </a:br>
            <a:r>
              <a:rPr b="1" lang="en-US" sz="4100" spc="-1" strike="noStrike">
                <a:solidFill>
                  <a:srgbClr val="333399"/>
                </a:solidFill>
                <a:latin typeface="BlackChancery"/>
              </a:rPr>
              <a:t>Thrown Overboar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019920" cy="4515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590920" y="6172200"/>
            <a:ext cx="57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Sharks followed the slave ship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triangl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rtation of Africans to North America and the Caribbean formed one side of what has become known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le t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s would load up with guns, ammunition and manufactured goods in Britain and France, then sail for four months to West Africa where the cargo was exchanged for Afric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me the middle passage across the Atlantic, and the sale of the African people in the Caribbean and in North American colon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the ships loaded up with the sugar, tobacco and cotton produced in the colonies and sailed back to England and France where the raw produce was refined and re-exported to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nald.ca/fulltext/caribb/page12.htm - 3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million West Afric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captured and shipped across the Atlantic to work on plantations, but it is estimated that only half survived the jour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s were often held in prisons for a long time before the ships came and then had a long journey,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iddle pa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cross the sea to the Caribb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s were chained together and crammed into holds on board ships and were subject to horrible living conditions, cruelty and tor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ring death to slavery, some of the Africans managed to break their chains and dive overboard; others succumbed to disease. Millions of others braved the deplorable journey to face a harsh life on the pla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embers.tripod.com/lylesj/trade/route.gif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228600"/>
            <a:ext cx="70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BlackChancery"/>
              </a:rPr>
              <a:t>The Slave Tr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143000"/>
            <a:ext cx="731520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isted in Africa before the coming of the Europ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tuguese replaced European slaves with Af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ar cane &amp; sugar pla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 boatload of African slaves brought by the Spanish in 15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75,000 enslaved Africans expor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other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ween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amp;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bout 10 million Africans shipped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labor on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fricans were thought to be a cheap labor force b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rked in hot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ew to th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mune to Europe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xperience in farm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slaves in the Southern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,000 slaves in the Northern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by ship, through the middl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died on the voy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called floating coff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080" y="457200"/>
            <a:ext cx="685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Trans-Atlantic 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9880" y="1828800"/>
            <a:ext cx="6981840" cy="4056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15228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Slave 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6629400" cy="4972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352680" y="6156360"/>
            <a:ext cx="40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Middle Passag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2:17:46Z</dcterms:created>
  <dc:creator>shoyer</dc:creator>
  <dc:description/>
  <dc:language>en-US</dc:language>
  <cp:lastModifiedBy>shoyer</cp:lastModifiedBy>
  <dcterms:modified xsi:type="dcterms:W3CDTF">2009-10-22T12:23:16Z</dcterms:modified>
  <cp:revision>2</cp:revision>
  <dc:subject/>
  <dc:title>Slavery</dc:title>
</cp:coreProperties>
</file>